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E66-4CE1-4D44-BB3C-FFF46E7F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156-97EE-4F82-B9A8-FBF0146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CF7-CDFD-4CCB-BA0A-45550B5B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CB5-5155-442D-83DE-083498EA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581-891C-449F-8142-10705E4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E30-F30F-4DE5-9C24-3B97D56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4B3-40FE-412F-908A-6D53369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C51-26D8-4551-8A8F-AF3BF1B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F51-5804-4E1D-9CE6-44883A1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3AE-83C1-433E-B443-BEFD2DF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3CD-22CC-4039-B8CB-4FBD2F3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5EA-4D93-442E-87E9-94789E1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6767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7676"/>
                </a:solidFill>
                <a:latin typeface="Arial"/>
              </a:rPr>
              <a:t>&lt;date/time&gt;</a:t>
            </a:r>
            <a:fld id="{1B41B4BB-328B-4DDC-B6C4-70507CEDCC5F}" type="datetime">
              <a:rPr b="0" lang="zh-CN" sz="1200" spc="-1" strike="noStrike">
                <a:solidFill>
                  <a:srgbClr val="767676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676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475B-B7FA-4E75-AEA8-2A057845DB23}" type="slidenum">
              <a:rPr b="0" lang="en-US" sz="1200" spc="-1" strike="noStrike">
                <a:solidFill>
                  <a:srgbClr val="7676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914560"/>
          </a:xfrm>
          <a:prstGeom prst="rect">
            <a:avLst/>
          </a:prstGeom>
          <a:solidFill>
            <a:srgbClr val="81e49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Georgia"/>
              </a:rPr>
              <a:t>West Sussex Federation Women’s Institute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Verdana"/>
              </a:rPr>
              <a:t>TRATEGIC PLAN</a:t>
            </a: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  <a:ea typeface="Verdana"/>
              </a:rPr>
              <a:t>2024-2026</a:t>
            </a: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80200" y="5554800"/>
            <a:ext cx="169524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8A6-30D5-40C1-9FBF-CA423A90B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636560" y="482292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7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  <a:ea typeface="Verdana"/>
              </a:rPr>
              <a:t>West Sussex Federation Womens Institu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  <a:ea typeface="Verdana"/>
              </a:rPr>
              <a:t>STRATEGIC PLAN 2024-2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72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38760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will be Growing and Re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Establish new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Retain and grow our existing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Develop a succession plan for Trustees and Adv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42456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are I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Build our knowledge of our memb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: Build awareness in communities and other organisations of what the WI off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Ensure WI is accessible for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929952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are 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  <a:ea typeface="Verdana"/>
              </a:rPr>
              <a:t>Build a diverse range of W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Provide a varied programme of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3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Continue work on making the Federation fit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98440" y="1743120"/>
            <a:ext cx="2594160" cy="2916360"/>
          </a:xfrm>
          <a:prstGeom prst="rect">
            <a:avLst/>
          </a:prstGeom>
          <a:noFill/>
          <a:ln w="2844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3512"/>
                </a:solidFill>
                <a:latin typeface="Georgia"/>
              </a:rPr>
              <a:t>We will be Bold and Insp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1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Increase the visibility of WSFWI with members and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3512"/>
                </a:solidFill>
                <a:latin typeface="Georgia"/>
              </a:rPr>
              <a:t>Objective 2: </a:t>
            </a:r>
            <a:r>
              <a:rPr b="0" lang="en-US" sz="1400" spc="-1" strike="noStrike">
                <a:solidFill>
                  <a:srgbClr val="0c3512"/>
                </a:solidFill>
                <a:latin typeface="Georgia"/>
              </a:rPr>
              <a:t>Build the presence of WSFWI in towns and villages in West Suss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57120" y="982800"/>
            <a:ext cx="2535480" cy="55692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BOLD AND INSP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416400" y="982800"/>
            <a:ext cx="2535120" cy="55692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GROWING AND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407280" y="969840"/>
            <a:ext cx="2533680" cy="55728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9299520" y="969840"/>
            <a:ext cx="2533680" cy="557280"/>
          </a:xfrm>
          <a:prstGeom prst="rect">
            <a:avLst/>
          </a:prstGeom>
          <a:solidFill>
            <a:srgbClr val="81e490"/>
          </a:solidFill>
          <a:ln w="19080">
            <a:solidFill>
              <a:srgbClr val="12501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12"/>
                </a:solidFill>
                <a:latin typeface="Georgia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292720" y="5987880"/>
            <a:ext cx="1695600" cy="2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C8E-9005-468C-B5C5-74536FF57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5" name=""/>
          <p:cNvSpPr/>
          <p:nvPr/>
        </p:nvSpPr>
        <p:spPr>
          <a:xfrm>
            <a:off x="1812960" y="1428840"/>
            <a:ext cx="851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73160" y="555480"/>
          <a:ext cx="9842400" cy="1347840"/>
        </p:xfrm>
        <a:graphic>
          <a:graphicData uri="http://schemas.openxmlformats.org/drawingml/2006/table">
            <a:tbl>
              <a:tblPr/>
              <a:tblGrid>
                <a:gridCol w="2374920"/>
                <a:gridCol w="2489040"/>
                <a:gridCol w="2487600"/>
                <a:gridCol w="2490840"/>
              </a:tblGrid>
              <a:tr h="5868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ERS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ATE OF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IGNED OFF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ATE OF NEXT REVI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80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/03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 Bri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rch 2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80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BB3-F99B-419D-BD38-D86AEF255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6T12:58:00Z</dcterms:created>
  <dc:creator>bridget kearns</dc:creator>
  <dc:description/>
  <dc:language>en-US</dc:language>
  <cp:lastModifiedBy>bridget kearns</cp:lastModifiedBy>
  <dcterms:modified xsi:type="dcterms:W3CDTF">2025-03-25T11:32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59</vt:lpwstr>
  </property>
</Properties>
</file>